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9225-5F75-4BC2-87F8-1C1C65A6A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27ED-EDEC-4458-8DF6-4A1B75AC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0A9F-1732-4139-AD80-70867AF37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6EF1-7CAF-490F-822C-4CCF76E8A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8D8C-79BE-4D97-B996-0779F380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A5C4-D6CB-41AE-9B59-1A4113BD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4C45-0838-4671-9691-8D0CE378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5DE0-F6AF-4FE0-ACF7-950EE97A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A3C5-CF53-4C10-9021-AF975E3C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D56C-9F1D-4CDF-B035-0D840C4E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C545-2479-4531-85A9-790A9FE6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C3B3-C08F-43C4-8A52-7AAE3CF9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5E7C-5E37-4231-9A0C-0689A3D39F56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EMPERAMENTUL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600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limbaj popular temperamentul= firea omulu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400"/>
                            </p:stCondLst>
                            <p:childTnLst>
                              <p:par>
                                <p:cTn id="1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6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7886520" cy="5359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979640" y="623736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NGVIN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3000"/>
                            </p:stCondLst>
                            <p:childTnLst>
                              <p:par>
                                <p:cTn id="40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2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legmaticu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384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m, imperturbabil, chiar l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hilibru emotional, fiind putin reactiv din acest punct de vedere, dar cu sentimente dura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acterizat de rabdare si toler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adapteaza mai greu si trece cu o oarecare dificultate de la o activitate la a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iculos, inclinat spre ru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431640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4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5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7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9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1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0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1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3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5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7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6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7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9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1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3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2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3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5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7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9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8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9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1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3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5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0"/>
                            </p:stCondLst>
                            <p:childTnLst>
                              <p:par>
                                <p:cTn id="5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4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2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556760" cy="5832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700360" y="623736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EGMA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3000"/>
                            </p:stCondLst>
                            <p:childTnLst>
                              <p:par>
                                <p:cTn id="52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elancolicu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384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otiv si sensibil, are dificultati de adap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tate de lucru redusa, dar obtine un randament progres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inat spre reverie si interioriz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ernic afectat de insuccese, compenseaza insuccesele prin inchiderea in s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bil de activitati de mig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284720" y="2276640"/>
            <a:ext cx="4618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000"/>
                            </p:stCondLst>
                            <p:childTnLst>
                              <p:par>
                                <p:cTn id="54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9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0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2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4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6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5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6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7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8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0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2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4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0"/>
                            </p:stCondLst>
                            <p:childTnLst>
                              <p:par>
                                <p:cTn id="6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4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480440" cy="5677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843280" y="630864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LANCOL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3000"/>
                            </p:stCondLst>
                            <p:childTnLst>
                              <p:par>
                                <p:cTn id="63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acteristici gene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33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e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n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iind dependent de tipul de A.N.S) si dec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il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linii mari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 tot parcursul vietii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utr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n punct de vedere valoric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re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sta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r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Es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ucabil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 influentat prin mijloace educationale)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Trăsăturile de temperament pot fi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compensate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prin dezvoltarea la nivelul caracterului a unor însuşiri care  sa suplineasc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292720" y="1557360"/>
            <a:ext cx="339264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000"/>
                            </p:stCondLst>
                            <p:childTnLst>
                              <p:par>
                                <p:cTn id="65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3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3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3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3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3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0"/>
                            </p:stCondLst>
                            <p:childTnLst>
                              <p:par>
                                <p:cTn id="6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tor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86756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Diferentele dintre oameni au fost sesizate inca din Antichitate de catre medicii Hippocrate si Galenus. Ei au considerat aceste diferente energetice dintre oameni rezulta din amestecul in proportii variabile a umorilor organismelo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 sange, flegma, bila neagra,bila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galben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ei doi medici au impartit oamenii dupa compozitia umorala in 4 categori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ngvini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legmati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lancoli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leri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sec. al XIX-lea Pavlov, neurofiziolog rus, a facut cercetari asupra sistemului nervos si a descoperit 3 proprietati ale acestu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bili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chilib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372360" y="404640"/>
            <a:ext cx="2520720" cy="3961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276720" y="1773360"/>
            <a:ext cx="2592360" cy="3743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95280" y="404640"/>
            <a:ext cx="2592360" cy="3456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9640" y="407664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ppoc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77080" y="4581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ale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5805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vl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8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8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8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n combinatiile acestora rezulta 4 tipuri de activitate nevoasa superioar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7570800" cy="26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ernic, echilibrat, mobil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angvi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ernic, neechilibrat, mobil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ler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ernic, echilibrat, inert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legma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ab (luat global)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lanco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422100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87280" y="4724280"/>
            <a:ext cx="67694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3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3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3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3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287964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Cercetările moderne, au demonstrat existenţa a patru tipuri de temperamente: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tipul 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puternic neechilibrat excitabil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corelează cu 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temperamentul </a:t>
            </a:r>
            <a:r>
              <a:rPr b="1" i="1" lang="ro-RO" sz="1800" spc="-1" strike="noStrike" u="sng">
                <a:solidFill>
                  <a:srgbClr val="000000"/>
                </a:solidFill>
                <a:uFillTx/>
                <a:latin typeface="Arial"/>
              </a:rPr>
              <a:t>coleric,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cel 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puternic echilibrat mobil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se exprimă în 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temperamentul </a:t>
            </a:r>
            <a:r>
              <a:rPr b="1" i="1" lang="ro-RO" sz="1800" spc="-1" strike="noStrike" u="sng">
                <a:solidFill>
                  <a:srgbClr val="000000"/>
                </a:solidFill>
                <a:uFillTx/>
                <a:latin typeface="Arial"/>
              </a:rPr>
              <a:t>sangvinic,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 tipul puternic echilibrat inert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în 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temperamentul </a:t>
            </a:r>
            <a:r>
              <a:rPr b="1" i="1" lang="ro-RO" sz="1800" spc="-1" strike="noStrike" u="sng">
                <a:solidFill>
                  <a:srgbClr val="000000"/>
                </a:solidFill>
                <a:uFillTx/>
                <a:latin typeface="Arial"/>
              </a:rPr>
              <a:t>flegmatic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, tipul slab (luat global) fiind pus la baza temperamentului </a:t>
            </a:r>
            <a:r>
              <a:rPr b="1" i="1" lang="ro-RO" sz="1800" spc="-1" strike="noStrike" u="sng">
                <a:solidFill>
                  <a:srgbClr val="000000"/>
                </a:solidFill>
                <a:uFillTx/>
                <a:latin typeface="Arial"/>
              </a:rPr>
              <a:t>melancolic.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În descrieri mai vechi se adaugă şi alte criterii de clasificare a temperamentului, cum sunt acelea de: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stenic – astenic, încordat – relaxat, hipertimic – hipotimic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771640" y="0"/>
            <a:ext cx="6372000" cy="6857280"/>
            <a:chOff x="2771640" y="0"/>
            <a:chExt cx="6372000" cy="6857280"/>
          </a:xfrm>
        </p:grpSpPr>
        <p:sp>
          <p:nvSpPr>
            <p:cNvPr id="57" name=""/>
            <p:cNvSpPr/>
            <p:nvPr/>
          </p:nvSpPr>
          <p:spPr>
            <a:xfrm>
              <a:off x="3043800" y="123480"/>
              <a:ext cx="5866920" cy="610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55360" y="1709640"/>
              <a:ext cx="2963880" cy="3084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85000" y="123480"/>
              <a:ext cx="0" cy="612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27280" y="3225240"/>
              <a:ext cx="294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02520" y="2455560"/>
              <a:ext cx="2885400" cy="15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LANCOLIC    COLER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LEGMATIC       SANGVIN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6760" y="327600"/>
              <a:ext cx="1372680" cy="4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STAB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20680" y="3045240"/>
              <a:ext cx="163944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ROVERT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28000" y="5678640"/>
              <a:ext cx="1372320" cy="40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TAB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351920" y="3021120"/>
              <a:ext cx="167724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EXTRAVERT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17760" y="711720"/>
              <a:ext cx="2744640" cy="22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acti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eastâmpăr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resi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xcitab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chimbă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mpos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ptimi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ti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112440" y="3358080"/>
              <a:ext cx="2744640" cy="30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                    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ociab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      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orbăre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    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ări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azli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ivacit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pirit de gr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ptitudini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duc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39640" y="3388680"/>
              <a:ext cx="2833200" cy="232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si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rijuli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Îngândur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şn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rol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mn de încred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mper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al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043800" y="741240"/>
              <a:ext cx="3520800" cy="28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   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Întrist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xi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ig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obr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esimi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zerv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sociab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nişt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175560" y="6193440"/>
              <a:ext cx="586692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asificarea categorială a temperamentelor (după Eysenc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74520" y="6839640"/>
              <a:ext cx="636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1640" y="0"/>
              <a:ext cx="2880" cy="68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774520" y="14040"/>
              <a:ext cx="63691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>
              <a:off x="9118440" y="17640"/>
              <a:ext cx="3240" cy="68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24000" y="404640"/>
            <a:ext cx="4032000" cy="56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MPERAMENT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te componenta dinamico-energetica a personalitatii care rezulta din influenta tipului de activitate nevoasa superioara (A.N.S) asupra comportamentulu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8360" y="5013360"/>
            <a:ext cx="1905120" cy="16509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356000" y="620640"/>
            <a:ext cx="4572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5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7900"/>
                            </p:stCondLst>
                            <p:childTnLst>
                              <p:par>
                                <p:cTn id="18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8900"/>
                            </p:stCondLst>
                            <p:childTnLst>
                              <p:par>
                                <p:cTn id="19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lericu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React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motionale puternice si reactivitate motorie accentu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ulsiv si uneori chiar violent, agres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e risipa de energie, reusind insa sa-si dovedeasca rapid capacita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nstant in relatiile cu ceilal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rbire inegala, inclinatii spre exager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211640" y="1916280"/>
            <a:ext cx="47530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7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3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5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7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9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4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5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7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9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1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4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7975440" cy="52959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050920" y="6093000"/>
            <a:ext cx="48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LER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3000"/>
                            </p:stCondLst>
                            <p:childTnLst>
                              <p:par>
                                <p:cTn id="31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6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angvinicu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oi, vesel, bine dispus, trece totusi de la o traire afectiva la a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adapteaza relativ usor, ceea ce ii permite stabilirea rapida de relatii soc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ndenta a expresiei verbale si fire comunic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a usor decizii, simtind nevoia variatiei situatii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356000" y="1844640"/>
            <a:ext cx="4537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5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6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7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8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0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2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4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0"/>
                            </p:stCondLst>
                            <p:childTnLst>
                              <p:par>
                                <p:cTn id="3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4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14:04:51Z</dcterms:created>
  <dc:creator>daniela</dc:creator>
  <dc:description/>
  <cp:keywords>tipuri</cp:keywords>
  <dc:language>en-US</dc:language>
  <cp:lastModifiedBy>Giani</cp:lastModifiedBy>
  <dcterms:modified xsi:type="dcterms:W3CDTF">2008-02-05T21:34:30Z</dcterms:modified>
  <cp:revision>22</cp:revision>
  <dc:subject/>
  <dc:title>TEMPERAMENTUL </dc:title>
</cp:coreProperties>
</file>